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255ACDF-23D2-4FD5-8D9D-E1525788BF7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41A606F-3DD9-4F18-B07D-6556FED8012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8650B7C-F6F8-481A-8828-C37243E21E1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FC560DB-0A33-4018-91C2-F0A3C601361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EB095DF-5A9B-44DF-B8E6-3E7A4FEC192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93E8444-600B-4008-BA58-0D4D7EB96F8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49F993C-A34B-4D8B-BB64-39EE2D4E92D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5E1946-500A-4E56-A7FB-C8046C2A3D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B23885-8B94-4FA6-ADEE-CDA82BBDDE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45E93A-E14E-46E7-9764-E6A3BFC8A1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B71770-1A82-4C92-9C23-F282D9B2DE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B5FCB7-BC16-4BF8-A819-BD5CDF5DE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BA28AC-57E1-4D84-9623-636F30B23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F4BA1-B936-493D-B643-EC0DD7B95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78E103-9350-4EF7-90B6-C41BC8AA3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F6568-2FE6-42AD-971F-10CDACA38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5FF626-327A-4278-AEBC-C06136EC0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10015-AFDF-41A2-9B6B-3EB210183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80C4EA-7CA1-4941-9A52-1C09FF864E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1CB3D-9413-44EA-ABB6-1A9687757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4CC22-3F74-4E60-B727-5ADC4089E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F3D7D-A879-47A3-8677-F36A9B577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40343E-76B1-4C98-8048-445C221E91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0C8C9A-0C70-4D5A-90D9-5ACD76BD12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19AD2B-D01D-4747-AD14-14701960D3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BDBD15-6DF0-42A7-9BC1-F824C1372F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449C27-1E84-473C-9A8E-CC3844F515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647950-F3BB-4EC1-8EE9-F6DCCFCDBC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B3D20-FB8B-432C-B47C-DF5EF75138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EB0DE3-5912-4776-BF5C-38F2EE2F03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E64859-604C-419F-8468-FA480CBD20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2869-C750-4F95-A984-4D83BDD24A9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DF3D-6621-40FA-83CA-C5D55D47C2C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AB4516EE-7A3F-410F-9D44-7227ECD46422}" type="datetime3">
              <a:rPr b="0" lang="en-US" sz="2000" spc="-1" strike="noStrike">
                <a:solidFill>
                  <a:srgbClr val="ffffcc"/>
                </a:solidFill>
                <a:latin typeface="Tahoma"/>
              </a:rPr>
              <a:t>July 30,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