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034-B2CF-4857-BE89-4250B5FBB47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6FB99-3350-49EB-A980-FBFC1D208E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7F25C4-F763-47ED-A6D1-116F5183B3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2EB77E-1756-46AE-82CB-259D68CB8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3D1C7-57D2-44BB-9030-023CA6072E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9C3C3-8155-405A-82A7-8DC6D1A1D4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FE452-5398-4894-B6E0-7B89598A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3EC7E-8024-48C2-8B52-AB657C13D7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114799-23CC-43EC-8726-22B2D9FF4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6F90F-7B6E-4335-9EAC-805A50E01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3E414-ED6B-47E8-A348-1BD017559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EE2766-0DCC-447E-A335-9ACD08CEEE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2FC6CE-A2F4-4E6F-AB07-F8F96F0CA16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Hello Worl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ppt do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7-05T17:26:57Z</dcterms:created>
  <dc:creator>Peter Karman</dc:creator>
  <dc:description/>
  <dc:language>en-US</dc:language>
  <cp:lastModifiedBy>Peter Karman</cp:lastModifiedBy>
  <dcterms:modified xsi:type="dcterms:W3CDTF">2006-07-05T17:27:23Z</dcterms:modified>
  <cp:revision>1</cp:revision>
  <dc:subject/>
  <dc:title>Hello World</dc:title>
</cp:coreProperties>
</file>