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D13-0378-4EF5-BA01-D17BBE90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DBD-3459-4003-8DCE-A6D187D3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424-7112-4831-B1E0-C671EBB0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EB3-ABBA-4154-BAB8-37E68CC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121-1ABE-4BDE-A07B-4A1E662B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7A5-C244-4F57-B54F-89CD90B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E0E-6B1C-4B17-AFFE-AF63EB8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212-D878-464A-99A4-38821D5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DB2-C3F0-45CE-BA3C-DA59544F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172-CEAE-4AEA-AE1D-270D1E08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72D-5689-475B-9BE0-9E12564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EA8-F53C-4260-BF3F-EF7CE63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622-360D-4BA5-8EF7-CDA0542A2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685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33800"/>
            <a:ext cx="685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670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100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960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14680" y="838080"/>
            <a:ext cx="0" cy="800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38080"/>
            <a:ext cx="0" cy="800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43680" y="8380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4280" y="142884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2400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1040" y="108576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122400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1040" y="9334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07172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07172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8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8920" y="81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2884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75080" y="81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42884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An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51600" y="81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42884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080" y="193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4280" y="257004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0824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1040" y="20700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824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36052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1040" y="222264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36052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8920" y="193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570040"/>
            <a:ext cx="1523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193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257004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2680" y="1935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57004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An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160" y="308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57240" y="3714840"/>
            <a:ext cx="175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57440" y="308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5600" y="372420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79680" y="308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1760" y="3724200"/>
            <a:ext cx="175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74520" y="420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44280" y="484200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0040" y="420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08200" y="484200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1240" y="420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84720" y="484200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846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760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7452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4280" y="597060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An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8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1720" y="5970600"/>
            <a:ext cx="1752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Other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000" y="579132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94120" y="5929200"/>
            <a:ext cx="406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4480" y="5348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84720" y="598500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3440" y="5348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98500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8160" y="652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16292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Ambigu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3800" y="652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7162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Ambigu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4120" y="652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4720" y="7162920"/>
            <a:ext cx="1752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Single_Cove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-76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ality Class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0040" y="7591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08200" y="8153280"/>
            <a:ext cx="175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GAP_Consens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ceService reports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5280" y="6523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716292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Not ATTR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Not ATTR_Non_Quality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0" cy="800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838080"/>
            <a:ext cx="0" cy="800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829720"/>
            <a:ext cx="685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6160" y="207792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81600" y="2216160"/>
            <a:ext cx="3650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1680" y="2216160"/>
            <a:ext cx="36504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81600" y="250020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3623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1680" y="250020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6160" y="222084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16400" y="193500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9640" y="2073240"/>
            <a:ext cx="3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2073240"/>
            <a:ext cx="3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81600" y="933480"/>
            <a:ext cx="1095120" cy="276480"/>
            <a:chOff x="3981600" y="933480"/>
            <a:chExt cx="1095120" cy="276480"/>
          </a:xfrm>
        </p:grpSpPr>
        <p:sp>
          <p:nvSpPr>
            <p:cNvPr id="128" name=""/>
            <p:cNvSpPr/>
            <p:nvPr/>
          </p:nvSpPr>
          <p:spPr>
            <a:xfrm>
              <a:off x="4285800" y="933480"/>
              <a:ext cx="48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81600" y="1071720"/>
              <a:ext cx="36504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11680" y="1071720"/>
              <a:ext cx="36504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81600" y="1085760"/>
            <a:ext cx="1095120" cy="276480"/>
            <a:chOff x="3981600" y="1085760"/>
            <a:chExt cx="1095120" cy="276480"/>
          </a:xfrm>
        </p:grpSpPr>
        <p:sp>
          <p:nvSpPr>
            <p:cNvPr id="132" name=""/>
            <p:cNvSpPr/>
            <p:nvPr/>
          </p:nvSpPr>
          <p:spPr>
            <a:xfrm>
              <a:off x="3981600" y="1224000"/>
              <a:ext cx="3650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85440" y="1085760"/>
              <a:ext cx="48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11680" y="1224000"/>
              <a:ext cx="3650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316400" y="78120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9640" y="919080"/>
            <a:ext cx="3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9360" y="919080"/>
            <a:ext cx="319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638680" y="933480"/>
            <a:ext cx="1104840" cy="276480"/>
            <a:chOff x="5638680" y="933480"/>
            <a:chExt cx="1104840" cy="276480"/>
          </a:xfrm>
        </p:grpSpPr>
        <p:sp>
          <p:nvSpPr>
            <p:cNvPr id="139" name=""/>
            <p:cNvSpPr/>
            <p:nvPr/>
          </p:nvSpPr>
          <p:spPr>
            <a:xfrm>
              <a:off x="5638680" y="1071720"/>
              <a:ext cx="3682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5400" y="933480"/>
              <a:ext cx="49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75240" y="1071720"/>
              <a:ext cx="3682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38680" y="1085760"/>
            <a:ext cx="1104840" cy="276480"/>
            <a:chOff x="5638680" y="1085760"/>
            <a:chExt cx="1104840" cy="276480"/>
          </a:xfrm>
        </p:grpSpPr>
        <p:sp>
          <p:nvSpPr>
            <p:cNvPr id="143" name=""/>
            <p:cNvSpPr/>
            <p:nvPr/>
          </p:nvSpPr>
          <p:spPr>
            <a:xfrm>
              <a:off x="5638680" y="1224000"/>
              <a:ext cx="3682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1085760"/>
              <a:ext cx="49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75240" y="1224000"/>
              <a:ext cx="3682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977080" y="781200"/>
            <a:ext cx="4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08520" y="919080"/>
            <a:ext cx="32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53280" y="91908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28760" y="914400"/>
            <a:ext cx="1142640" cy="276480"/>
            <a:chOff x="2228760" y="914400"/>
            <a:chExt cx="1142640" cy="276480"/>
          </a:xfrm>
        </p:grpSpPr>
        <p:sp>
          <p:nvSpPr>
            <p:cNvPr id="150" name=""/>
            <p:cNvSpPr/>
            <p:nvPr/>
          </p:nvSpPr>
          <p:spPr>
            <a:xfrm>
              <a:off x="2546280" y="9144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28760" y="1052640"/>
              <a:ext cx="3808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90520" y="1052640"/>
              <a:ext cx="3808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28760" y="1066680"/>
            <a:ext cx="1142640" cy="276480"/>
            <a:chOff x="2228760" y="1066680"/>
            <a:chExt cx="1142640" cy="276480"/>
          </a:xfrm>
        </p:grpSpPr>
        <p:sp>
          <p:nvSpPr>
            <p:cNvPr id="154" name=""/>
            <p:cNvSpPr/>
            <p:nvPr/>
          </p:nvSpPr>
          <p:spPr>
            <a:xfrm>
              <a:off x="2228760" y="12049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45920" y="1066680"/>
              <a:ext cx="50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90520" y="12049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577960" y="78120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00400" y="9190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7120" y="9190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720" y="7812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919080"/>
            <a:ext cx="355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44520" y="919080"/>
            <a:ext cx="355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1935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073240"/>
            <a:ext cx="355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4520" y="2073240"/>
            <a:ext cx="355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28760" y="236052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46280" y="222264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36052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20700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28760" y="220824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0880" y="220824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28760" y="2513160"/>
            <a:ext cx="3812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46280" y="23749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0880" y="2513160"/>
            <a:ext cx="38088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77960" y="193500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0400" y="207324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7120" y="207324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2509920"/>
            <a:ext cx="3938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6840" y="23716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7280" y="2509920"/>
            <a:ext cx="39348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8280" y="20667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0" y="2205000"/>
            <a:ext cx="3938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7280" y="2205000"/>
            <a:ext cx="3934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1760" y="193500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94480" y="2073240"/>
            <a:ext cx="344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83160" y="2073240"/>
            <a:ext cx="344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4320" y="3240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360" y="337824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7480" y="337824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4560" y="306720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640" y="32050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3360" y="32050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7840" y="3360600"/>
            <a:ext cx="365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52760" y="3222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8280" y="3360600"/>
            <a:ext cx="3650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47840" y="366552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50960" y="3527280"/>
            <a:ext cx="4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8280" y="366552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7840" y="3513240"/>
            <a:ext cx="36504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2760" y="3375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8280" y="3513240"/>
            <a:ext cx="3650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83000" y="3076560"/>
            <a:ext cx="4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6240" y="321480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55960" y="321480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4800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8880" y="32097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334800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00560" y="3076560"/>
            <a:ext cx="4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2360" y="321480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76760" y="321480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75120" y="4510080"/>
            <a:ext cx="1104840" cy="276480"/>
            <a:chOff x="3975120" y="4510080"/>
            <a:chExt cx="1104840" cy="276480"/>
          </a:xfrm>
        </p:grpSpPr>
        <p:sp>
          <p:nvSpPr>
            <p:cNvPr id="212" name=""/>
            <p:cNvSpPr/>
            <p:nvPr/>
          </p:nvSpPr>
          <p:spPr>
            <a:xfrm>
              <a:off x="3975120" y="4648320"/>
              <a:ext cx="3682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82200" y="451008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1680" y="4648320"/>
              <a:ext cx="3682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75120" y="4357800"/>
            <a:ext cx="1104840" cy="276480"/>
            <a:chOff x="3975120" y="4357800"/>
            <a:chExt cx="1104840" cy="276480"/>
          </a:xfrm>
        </p:grpSpPr>
        <p:sp>
          <p:nvSpPr>
            <p:cNvPr id="216" name=""/>
            <p:cNvSpPr/>
            <p:nvPr/>
          </p:nvSpPr>
          <p:spPr>
            <a:xfrm>
              <a:off x="4282200" y="435780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75120" y="4496040"/>
              <a:ext cx="3682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11680" y="4496040"/>
              <a:ext cx="3682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75120" y="4800600"/>
            <a:ext cx="368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1480" y="46623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1680" y="4800600"/>
            <a:ext cx="368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1560" y="435276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55960" y="435276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60440" y="4495680"/>
            <a:ext cx="3654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65360" y="4357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90880" y="4495680"/>
            <a:ext cx="3650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60440" y="4648320"/>
            <a:ext cx="36540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63920" y="451008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0880" y="464832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5600" y="420516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440" y="435276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5160" y="435276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5480" y="43578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7960" y="449568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70080" y="449568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960" y="4648320"/>
            <a:ext cx="38088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5480" y="45100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0080" y="4648320"/>
            <a:ext cx="38088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7160" y="420516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3726000"/>
            <a:ext cx="1752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n_Quality_Same_St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6440" y="3227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3160" y="3227400"/>
            <a:ext cx="333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00840" y="32418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00840" y="354636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37968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337968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3684600"/>
            <a:ext cx="3812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684600"/>
            <a:ext cx="38088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353232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56200" y="33940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353232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87880" y="308916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0320" y="3227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77040" y="3227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7960" y="5486400"/>
            <a:ext cx="1142640" cy="276480"/>
            <a:chOff x="507960" y="5486400"/>
            <a:chExt cx="1142640" cy="276480"/>
          </a:xfrm>
        </p:grpSpPr>
        <p:sp>
          <p:nvSpPr>
            <p:cNvPr id="257" name=""/>
            <p:cNvSpPr/>
            <p:nvPr/>
          </p:nvSpPr>
          <p:spPr>
            <a:xfrm>
              <a:off x="825480" y="5486400"/>
              <a:ext cx="50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960" y="5624640"/>
              <a:ext cx="3808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69720" y="5624640"/>
              <a:ext cx="38088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7960" y="5638680"/>
            <a:ext cx="1142640" cy="276480"/>
            <a:chOff x="507960" y="5638680"/>
            <a:chExt cx="1142640" cy="276480"/>
          </a:xfrm>
        </p:grpSpPr>
        <p:sp>
          <p:nvSpPr>
            <p:cNvPr id="261" name=""/>
            <p:cNvSpPr/>
            <p:nvPr/>
          </p:nvSpPr>
          <p:spPr>
            <a:xfrm>
              <a:off x="507960" y="57769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5120" y="5638680"/>
              <a:ext cx="50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69720" y="5776920"/>
              <a:ext cx="380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07960" y="59292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5480" y="57913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70080" y="59292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7160" y="533412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56200" y="437364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451152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451152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466416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56200" y="45259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66416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8164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6200" y="46782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48164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7880" y="422100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0320" y="435924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1480" y="4343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8040" y="545616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47760" y="5456160"/>
            <a:ext cx="318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54320" y="562464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0680" y="5486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90880" y="562464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54320" y="577692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0680" y="56386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90880" y="577692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66920" y="5929200"/>
            <a:ext cx="368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2360" y="5334120"/>
            <a:ext cx="4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66787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38480" y="6816600"/>
            <a:ext cx="36828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6816600"/>
            <a:ext cx="36828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38480" y="6969240"/>
            <a:ext cx="36828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44840" y="683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5040" y="6969240"/>
            <a:ext cx="36828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76520" y="6526080"/>
            <a:ext cx="43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1720" y="6678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6280" y="6816600"/>
            <a:ext cx="39060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57480" y="6816600"/>
            <a:ext cx="39024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3400" y="6526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9360" y="6664320"/>
            <a:ext cx="34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33360" y="6664320"/>
            <a:ext cx="34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75280" y="55008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7760" y="5638680"/>
            <a:ext cx="381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19880" y="563868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57760" y="57913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75280" y="56530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19880" y="57913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6960" y="534816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9400" y="5486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96120" y="548640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563868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80040" y="55008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563868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579132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80040" y="565308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579132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59436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80040" y="580536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59436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033800" y="5348160"/>
            <a:ext cx="1000080" cy="276480"/>
            <a:chOff x="4033800" y="5348160"/>
            <a:chExt cx="1000080" cy="276480"/>
          </a:xfrm>
        </p:grpSpPr>
        <p:sp>
          <p:nvSpPr>
            <p:cNvPr id="322" name=""/>
            <p:cNvSpPr/>
            <p:nvPr/>
          </p:nvSpPr>
          <p:spPr>
            <a:xfrm>
              <a:off x="4311720" y="5348160"/>
              <a:ext cx="44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3800" y="548640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00520" y="548640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962520" y="6996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0040" y="68580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6996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6843600"/>
            <a:ext cx="380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80040" y="67057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6843600"/>
            <a:ext cx="3812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57760" y="6996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75280" y="685800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9880" y="6996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57760" y="68436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75280" y="6705720"/>
            <a:ext cx="5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19880" y="68436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71600" y="66484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38320" y="6648480"/>
            <a:ext cx="333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6880" y="76215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280" y="7759800"/>
            <a:ext cx="339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63600" y="7759800"/>
            <a:ext cx="339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680" y="8153280"/>
            <a:ext cx="1752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GAP_Consens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ATTR_No_Confli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ceService reports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0" y="7591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398680" y="7926480"/>
            <a:ext cx="966600" cy="276480"/>
            <a:chOff x="2398680" y="7926480"/>
            <a:chExt cx="966600" cy="276480"/>
          </a:xfrm>
        </p:grpSpPr>
        <p:sp>
          <p:nvSpPr>
            <p:cNvPr id="345" name=""/>
            <p:cNvSpPr/>
            <p:nvPr/>
          </p:nvSpPr>
          <p:spPr>
            <a:xfrm>
              <a:off x="2398680" y="8064720"/>
              <a:ext cx="32220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7240" y="7926480"/>
              <a:ext cx="42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3080" y="8064720"/>
              <a:ext cx="32220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398680" y="7773840"/>
            <a:ext cx="966600" cy="276480"/>
            <a:chOff x="2398680" y="7773840"/>
            <a:chExt cx="966600" cy="276480"/>
          </a:xfrm>
        </p:grpSpPr>
        <p:sp>
          <p:nvSpPr>
            <p:cNvPr id="349" name=""/>
            <p:cNvSpPr/>
            <p:nvPr/>
          </p:nvSpPr>
          <p:spPr>
            <a:xfrm>
              <a:off x="2667240" y="7773840"/>
              <a:ext cx="42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98680" y="7912080"/>
              <a:ext cx="32220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3080" y="7912080"/>
              <a:ext cx="32220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671920" y="7621560"/>
            <a:ext cx="4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7759800"/>
            <a:ext cx="314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8400" y="7759800"/>
            <a:ext cx="314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889956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Slice Quality Classes and Attributes June 3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4349880"/>
            <a:ext cx="32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83240" y="4349880"/>
            <a:ext cx="32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2880" y="4202280"/>
            <a:ext cx="4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029120" y="6553080"/>
            <a:ext cx="1000080" cy="276480"/>
            <a:chOff x="4029120" y="6553080"/>
            <a:chExt cx="1000080" cy="276480"/>
          </a:xfrm>
        </p:grpSpPr>
        <p:sp>
          <p:nvSpPr>
            <p:cNvPr id="360" name=""/>
            <p:cNvSpPr/>
            <p:nvPr/>
          </p:nvSpPr>
          <p:spPr>
            <a:xfrm>
              <a:off x="4307040" y="6553080"/>
              <a:ext cx="44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9120" y="669132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95840" y="669132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715000" y="6553080"/>
            <a:ext cx="1000080" cy="276480"/>
            <a:chOff x="5715000" y="6553080"/>
            <a:chExt cx="1000080" cy="276480"/>
          </a:xfrm>
        </p:grpSpPr>
        <p:sp>
          <p:nvSpPr>
            <p:cNvPr id="364" name=""/>
            <p:cNvSpPr/>
            <p:nvPr/>
          </p:nvSpPr>
          <p:spPr>
            <a:xfrm>
              <a:off x="5992920" y="6553080"/>
              <a:ext cx="44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5000" y="669132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81720" y="6691320"/>
              <a:ext cx="3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416400" y="7620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181400" y="7648560"/>
            <a:ext cx="2447280" cy="276480"/>
            <a:chOff x="4181400" y="7648560"/>
            <a:chExt cx="2447280" cy="276480"/>
          </a:xfrm>
        </p:grpSpPr>
        <p:sp>
          <p:nvSpPr>
            <p:cNvPr id="369" name=""/>
            <p:cNvSpPr/>
            <p:nvPr/>
          </p:nvSpPr>
          <p:spPr>
            <a:xfrm>
              <a:off x="4861440" y="7648560"/>
              <a:ext cx="108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ns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1400" y="7786800"/>
              <a:ext cx="815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12920" y="7786800"/>
              <a:ext cx="815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419720" y="780084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Quality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793908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7939080"/>
            <a:ext cx="38088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810108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8101080"/>
            <a:ext cx="368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32320" y="79534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Quality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8325000"/>
            <a:ext cx="3650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51400" y="8325000"/>
            <a:ext cx="36540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818352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Quality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84931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35560" y="8493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835488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Quality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8702640"/>
            <a:ext cx="39024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26200" y="8702640"/>
            <a:ext cx="390600" cy="0"/>
          </a:xfrm>
          <a:prstGeom prst="line">
            <a:avLst/>
          </a:prstGeom>
          <a:ln cap="rnd" w="1908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856440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51520" y="2209680"/>
            <a:ext cx="49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49560" y="2357280"/>
            <a:ext cx="39384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19600" y="2352600"/>
            <a:ext cx="3938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7280" y="2352600"/>
            <a:ext cx="393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9154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hael Schatz (mschatz@tigr.or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21:23:07Z</dcterms:created>
  <dc:creator>mschatz</dc:creator>
  <dc:description/>
  <dc:language>en-US</dc:language>
  <cp:lastModifiedBy>Michael Schatz</cp:lastModifiedBy>
  <dcterms:modified xsi:type="dcterms:W3CDTF">2004-06-03T18:22:23Z</dcterms:modified>
  <cp:revision>61</cp:revision>
  <dc:subject/>
  <dc:title>PowerPoint Presentation</dc:title>
</cp:coreProperties>
</file>