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FAE416C-3ED9-46B4-AB97-78E64D4DF66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EBA3A3D-29F7-45C5-9D5E-B97DC3B2D37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8002328-9078-4B68-81F6-6C0AA9EC2AB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D19FFB2E-4552-47F0-82D0-23BA2D136C0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3D52D84-5494-4426-B266-FE9C3311BBA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FAF7128-78CF-4C4B-B3B1-F32FD71E09B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3B20686-713F-406F-A081-03FF7744EE1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C03DDB-519E-47A9-8A63-5E63E3A612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5F1CB8-20F9-4722-A71B-2F5D590FD0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3C4624-DC97-4F5F-B89A-94027CBE6E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AAC062-3D4F-4075-97E2-1A06E9E37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235C8C-3D06-4F25-A962-A54EF4F967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99493E-5368-46EA-ACEF-BD6D06C35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E1B2E-946B-4FBE-8E6C-87DAFED39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D33A56-F56E-4A89-8D3D-935CE6068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8C213E-AC2F-4078-AB70-DA70CA764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1BDDD-2E2F-4687-BE4D-57EC4F795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5365E-353A-40B7-B9E6-55627351C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11B918-32E4-44E4-B633-607664C16A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622F8-249A-4BDB-AC66-800D19696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F17B9-FCEC-4AF8-9351-BF3BB6AA8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509DFF-47C0-4593-A4B6-765DEA6E2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CBD4DF-C563-4504-A1DC-D9AF39819C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5B0C0D-408F-4784-B8D5-002BF42BF8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9D41EB-4F83-40AF-A8BD-7B328E0C74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0E9722-CC96-4081-8F17-507FFDCCE2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8D8ACD-0A01-4D81-8672-6F68AE7AD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9DE98A-43C4-401B-87AC-6EA1D2FDE4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013D79-F96E-4C90-B508-D7C804D5A9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8F421B-29FF-45E7-8497-B8800BEE16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DF2387-F2C2-4E90-A2DA-BB00001F98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F576-3A74-4B29-95A6-F79C10F1C9F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4BDC-FE71-4529-966A-5687BFD42BE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94007FCD-B421-416E-B22F-C3A89D8D3150}" type="datetime3">
              <a:rPr b="0" lang="en-US" sz="2000" spc="-1" strike="noStrike">
                <a:solidFill>
                  <a:srgbClr val="ffffcc"/>
                </a:solidFill>
                <a:latin typeface="Tahoma"/>
              </a:rPr>
              <a:t>July 28,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