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A7E-CFDF-40C5-9F2D-2958B5F3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6FA-7900-47F5-B758-38DE5C3C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CB8-E55F-4E7F-B37C-E5E5FF34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2C6-B55D-4BA2-9B21-5AD897D1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4C6-1E8B-48E9-95E4-1915CC1E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9B6-3BB8-44D6-83A6-8D3C18C6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85B-0BD3-4561-8F91-D1425737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B3B-1CF2-4FBD-B2F9-52B5848F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768-ED52-42D2-89F3-ED848A34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DEF-95E2-4CA7-B9AC-55BD4254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24A-CB06-4EDE-BA35-F75BCE50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9BF-C038-4BF7-B992-7D54E390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784B-1C87-4605-AB69-2CF057500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2560" y="17604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3960" y="2286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3800" y="8398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360" y="20048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9720" y="221148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 Firm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0" y="152568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5360" y="13190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1240" y="10144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13190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6480" y="185256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1960" y="17002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1960" y="208116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7858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2560" y="14716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2560" y="21574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1640" y="739800"/>
            <a:ext cx="1308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6600" y="739800"/>
            <a:ext cx="149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03760" y="1425600"/>
            <a:ext cx="122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g.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0520" y="211140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c A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0480" y="211140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law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142560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MF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93640" y="739800"/>
            <a:ext cx="1166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ignal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76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8000" y="289548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 from phon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247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65760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638680" y="1066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106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8762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760" y="9144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30120" y="5335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23:18:40Z</dcterms:created>
  <dc:creator>John Kostogiannis</dc:creator>
  <dc:description/>
  <dc:language>en-US</dc:language>
  <cp:lastModifiedBy>John Kostogiannis</cp:lastModifiedBy>
  <dcterms:modified xsi:type="dcterms:W3CDTF">1999-09-12T11:03:12Z</dcterms:modified>
  <cp:revision>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